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77564"/>
        <c:axId val="48971912"/>
      </c:barChart>
      <c:catAx>
        <c:axId val="83777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71912"/>
        <c:crosses val="autoZero"/>
        <c:auto val="1"/>
        <c:lblAlgn val="ctr"/>
        <c:lblOffset val="100"/>
        <c:noMultiLvlLbl val="0"/>
      </c:catAx>
      <c:valAx>
        <c:axId val="48971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77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E39-3B66-4ADB-8E27-29D26506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B24-6C89-4683-891F-B91A39A0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470-A4BF-4883-BA25-2E787D0F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F26-B85D-4A5E-AF78-EDB31854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5BB-DD7F-45A0-996C-C90F460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1C1-B758-4387-B022-63A1F94C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5D9-C6A0-4726-A114-0BE4CA1A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E0B-6A12-4B2E-B58E-DD064C9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67A-FEC0-4B46-92D5-E7C27F82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2E8-E68F-49C4-AC35-F2B7CF4A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EF3-2EA5-4E08-A8B7-1B1B9ECB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D3E-A933-44D9-AA07-7F0C168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6D7F2-F6DD-495C-A94A-F0044425D8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