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84474"/>
        <c:axId val="57256840"/>
      </c:barChart>
      <c:catAx>
        <c:axId val="36684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56840"/>
        <c:crosses val="autoZero"/>
        <c:auto val="1"/>
        <c:lblAlgn val="ctr"/>
        <c:lblOffset val="100"/>
        <c:noMultiLvlLbl val="0"/>
      </c:catAx>
      <c:valAx>
        <c:axId val="57256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84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526-BE4B-4AF7-86B6-2FDCC61E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51F-1FD0-4557-9BCB-75CFD58B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5DB-B8E1-4A76-9890-D9650F34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B0E-D518-475B-876A-51B92E3C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208-516A-4F2B-AD83-DD58C919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F7B-63B0-4ACB-A24B-87E56116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C38-2960-46A3-A529-F3586B98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003-1D97-49E1-9456-4C420E29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59C-94D2-45B6-BA21-A242AF16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517-F480-413A-8DCB-9909D52D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DC6-6795-495C-B939-62FE5AD0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675-2A73-4860-8220-5190CBF5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2BE4C-562B-4C4C-8C45-DEEEAFF77A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