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96642"/>
        <c:axId val="42517763"/>
      </c:barChart>
      <c:catAx>
        <c:axId val="51896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7763"/>
        <c:crosses val="autoZero"/>
        <c:auto val="1"/>
        <c:lblAlgn val="ctr"/>
        <c:lblOffset val="100"/>
        <c:noMultiLvlLbl val="0"/>
      </c:catAx>
      <c:valAx>
        <c:axId val="42517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96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A1E-E520-43FC-9E3C-E86A84DE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47E-DB40-4C96-9D8C-89AFF90F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8BD-5F84-48D6-AB1C-96F76868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046-47A3-4507-996A-3D66FA06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C4C-8E1A-4F4B-B88C-CDB8A230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9DA-3B8C-4E5D-A02C-99A96A0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680-12B0-4D90-9400-F558DD56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D44-54C4-4902-A74A-F4A34B0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6E6-2EF4-4159-87DA-95BA820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517-DD30-4EEA-A2BB-F8F32358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C12-BBF2-4E55-84C7-AA23875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6AA-1360-4407-8C99-EAEDF4C7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5E201-9052-4130-999B-8405B77180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