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74735"/>
        <c:axId val="53304062"/>
      </c:barChart>
      <c:catAx>
        <c:axId val="83774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04062"/>
        <c:crosses val="autoZero"/>
        <c:auto val="1"/>
        <c:lblAlgn val="ctr"/>
        <c:lblOffset val="100"/>
        <c:noMultiLvlLbl val="0"/>
      </c:catAx>
      <c:valAx>
        <c:axId val="53304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74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FE5-191F-473C-8425-A34AB9A2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955-4901-44DA-BD00-89AB6253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1F7-4D19-4D88-B5A9-685DB64A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EEA-7A0A-4865-A045-A4DAD89F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78F-2593-4038-B10F-5F5A055C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6B9-05D7-4CD0-8F2E-6A0F3F36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07B-CF1F-4EC1-B164-26CDD51A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FA6-8ED4-42EF-96D6-C4FA7E67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01F-5A7E-4088-9BA8-7EE2F0E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F77-91B2-4F42-B196-DCDABC89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6C2-1E36-4A75-9380-C77E4CFE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C10-449F-4333-A690-CEC98D67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5465A-3EFA-421B-ADC5-EDEE4AB81E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