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26304"/>
        <c:axId val="59572586"/>
      </c:barChart>
      <c:catAx>
        <c:axId val="41026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72586"/>
        <c:crosses val="autoZero"/>
        <c:auto val="1"/>
        <c:lblAlgn val="ctr"/>
        <c:lblOffset val="100"/>
        <c:noMultiLvlLbl val="0"/>
      </c:catAx>
      <c:valAx>
        <c:axId val="59572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26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D33-9D4E-47E4-B3DE-CA1C70B8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DC9-97C7-4169-A7FD-50CD2A97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B95-9AC0-4599-B845-23799E99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6C0-3FF9-4111-941A-CCBABFBF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305-F4B3-42A3-A36B-3F00DF7F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DB8-30A0-4F6A-B777-3BDDD7E3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7A1-2CB5-43A3-859C-0B465473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42B-9348-46EB-894F-BDD3BFF9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B14-DDA9-4A8D-9827-60A7ECEE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C0F-F77F-48CC-B177-4703B9D2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37B-1199-4199-8DF9-CA45F459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F07-E033-40A0-850B-F61D8337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223C0-F6C8-4D0B-BE5B-0F02182FE5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