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66006"/>
        <c:axId val="8774743"/>
      </c:barChart>
      <c:catAx>
        <c:axId val="16366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4743"/>
        <c:crosses val="autoZero"/>
        <c:auto val="1"/>
        <c:lblAlgn val="ctr"/>
        <c:lblOffset val="100"/>
        <c:noMultiLvlLbl val="0"/>
      </c:catAx>
      <c:valAx>
        <c:axId val="8774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66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CEA-7F8E-4DC2-9910-FA5FA0DC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BDE-8C6B-4635-98CD-E8CF8418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80C-7925-46F9-9BDC-D2411A84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C68-732B-42BE-BB4D-F7BAD402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724-F9B8-4BA3-B38C-1B121962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137-1951-4201-9358-19F25413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A82-4388-4BD3-9F0D-B69EF827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957-7963-418D-AEA8-AC675D53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0B2-3096-4189-8ED5-40288017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B97-3454-4B0E-8B51-A5B5455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979-3D29-4304-B3EE-5705590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D93-E60E-45A6-A9A0-C5B373EB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F79D2-CDC6-44E6-9F00-BCB67F7687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