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73E3F1-E130-4565-8DC7-10D607B56F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C7A434-C2E8-4B42-A99A-1BB0E11DBA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9A58B6-026F-452F-A826-FD4AF3A873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08BAC0-7590-4E67-ABCA-8525EC7B63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D4D4787-7763-4EAB-A49F-92E0F655498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8815B3-B46A-43B2-8636-C7B879D6AF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3E4EC3-9409-4E62-B173-C1DAEEA9BA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DD3A4D-C8E7-47BA-B63B-97D987B430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77D7AD-062B-4744-A20A-B965131142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4E4244-60FE-44F7-9C7C-361FBB89C7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FE8532-92C3-4F4F-840F-AAA82AF079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A6A555-8623-4B66-86F2-CF6A095AB8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277D44-3594-4380-86E4-86AFD9E8AB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CABB2B-78B2-4ED9-817B-AEB62CB588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203E29-B965-4E5D-A8E5-13A7506E79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6FEB515-59DE-4E61-883B-A8B2D8339DA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030D159-7C63-4A1B-8BF9-E0EC5C5C529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1C3E56-ACB5-442B-932D-C15FEC8301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0C0CD3-151E-4ACB-9A68-414715AA10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7DA8C6-CDD2-4CD6-895C-B4DCA0EE94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3E7CAE-0DB7-41CF-8F96-A1976630E8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14F6EE-AC68-4729-9CA8-5D184FD7CA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C6C942-0EE8-4DAF-854C-A5447111B3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F25E20-B8B9-4591-98F6-CFDD23D154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ACF7D1-E873-4C57-90EF-753D26CEA44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C1C001-4CD5-4CD9-B5C0-4B93BD95599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1FC19B7-3897-4531-AB69-B0ABCF51B34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DF47218-1E6C-4ECB-8D1D-5C02DD1D6CED}"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75D5B5-02C4-4E4F-9765-B35D077D005E}"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1A921B-3A51-43BC-9203-E307D909B50E}"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F762C4-65EF-460D-9F5C-8956BA4A3F0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8CC476-3371-47D8-BE5D-98BE804238E8}"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FAB77D-20DF-4E56-9E8F-A9DB77D5B693}"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01394E-277B-4D70-8B76-E4A800F2C3BB}"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0FFD19-2149-4A74-8162-BF203BEB6A45}"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272881-8E52-4C61-8B59-ED42CE31D4C1}"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4110A7-25FA-41E1-8C2B-1DD745BA74FC}"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325BE9-1324-4C70-BD68-2B0960B95E5D}"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54758E-80C0-4F81-88B6-66571261B0FF}"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66B455-3C87-4D70-B9A5-B6B05780E9AE}"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CA5332-BDEC-4EA4-87B6-61E268128E65}"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11B9C4-FD96-4F04-9D4A-CE1DDDD6B531}"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F20ED0-5332-477E-8922-CB67D3502DFE}"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A56C5B-406F-47CC-9C35-78C17C01DF94}"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1A3501-172A-4D4E-91A4-B82C5098825B}"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45045A-6158-4C3E-A5D8-22FE5C60035A}"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F3CA5F-5B0B-468A-AAA6-16C90DAA2D4C}"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F74300-39BA-4232-976F-36756C320F31}"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5090F3-00AA-44AF-AA74-BA8ED701FEE3}"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71423D-D3EF-457E-8BB7-9FA7D3CEC830}"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F1791B-9F48-414C-B525-27698CE76A2E}"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77968E-28F9-4175-8FE5-A6D4F48778A4}"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42BB38-0A4B-43F0-9059-459DA4257813}"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66D3EFB-0E55-448E-9D1E-1EEA42B719C2}"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398F9F-476F-4CC9-B4C1-AB970E3A440A}"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82E577-6F69-45FB-B966-27B88EC7078B}"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75F9A9-3E66-4E63-BBC1-887039EFBA7E}"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635E58-B13D-4969-82C3-DDBA713DA537}"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52CC43-868A-4089-BD9D-A34201FC87D7}"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51E50C-2CED-47F3-86E9-F7DBCEAFB9BE}"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658A56-004C-4EAC-BF37-46D79B0E3221}"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5F62DA-6A82-416A-BC8C-511A2AD45B94}"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2330E2-D9DA-4ED8-820D-E19CFDB2E3E1}"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5725DB-B840-4DC8-882C-A12934FA0D97}"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88286C-2CF3-4C4D-A63C-256AA3438EEF}"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32534D-E41D-4AF9-BE5B-11822AEDD20C}"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DAE379-A33E-4BAF-AF59-7CDE217C4C10}"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4711F6-B149-4CC0-953A-6C39F29F43C3}"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DFC010-C90C-4168-A05E-41A3C59DF5C6}"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D8F2E3-7FBD-4A91-B87D-396AAD421018}"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570E4D-856E-4EB4-B1CB-7234936E86FF}"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7E7211-0F6D-41F7-8A05-D7941FAE572A}"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A75C0F-F49C-4E9B-B31B-7C2663B44740}"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8CCCCD-64E9-4BCC-BF82-15A4BD7BF86E}"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2A57DAC-3B4E-43DD-9C31-460645472567}"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47D88E-1065-4951-ACC1-06CDD3985A30}"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09BF3F-18C0-411F-9C5A-CC86AE386779}"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6C1F5FF-BC76-4401-BC0B-6E7E2B8433B8}"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085AFF-9E9A-4AF9-8058-9D089927ABE7}"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95E25F-99EE-464D-86EE-50A5E5F45514}"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F535B4-20A3-440B-AC2F-7F4F2DC65231}"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200F46-113E-460E-B0ED-9C3DACDC2D41}"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0802F8-74E2-492F-B0C5-8D62F4DEE907}"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90607F-9A7B-42AE-8EED-2AD0B44E1CC6}"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BD4662-00B4-4ADA-A539-74FBAE852CAC}"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EABFFCC-4837-49F4-8144-469C6C482353}"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2B8DB9-FBDD-4278-8152-1C9B1B9294C2}"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5E4F7C-E703-4F47-A03A-B5E9863CB159}"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5EB509-6916-41D8-B0D9-F5A96CDBD2E9}"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1434E7-A208-48C1-8E78-1F75CCEA4369}"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D9310D-17A7-4E44-A1ED-21C874136D1A}"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F18C1C1-C30C-4822-8598-FF67691E6112}"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822EF5-109B-4A15-BA45-63D3576A59A7}"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0AD032-2AFF-4694-B1FC-3EBC44C19A46}"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419A7A-B2D8-4C63-B9CB-D71BD3657674}"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5FBB12-2C28-4D83-9FFB-FDBFBC2F4D36}"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D7C9D0B-2A7A-4D3F-88D8-5A04F6BA7B40}"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3E3DB0-5561-46C2-8A3F-DB05AAA90705}"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89C4AB-99FA-4A4C-BE37-EF722C6EDCCC}"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C6BA60-4BDF-478A-B2C4-5B4CC774CB90}"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3079A6-EE80-4BA9-8303-95355AC71EB6}"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AA4E13-AA29-4E64-AB7F-756500D09F66}"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76758F-735B-4A0E-B570-D9C4DBFDFB4D}"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BCCB783-ED5C-43B0-BC7E-EAAF1EE6EB06}"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63C759-E776-4524-B725-D937B9D4CD38}"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B1C286-C0F0-463E-8851-2E12AB7CC4E8}"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99772C-0EDE-4D13-A2CA-3BB8265A8778}"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A9E2155-7BA6-4E9D-BFFF-57AE4A8731BD}"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68F010-0229-486D-A312-FA9A921E0D65}"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29E2E84-E5DD-47FC-9E19-4F0E3A83FBCF}"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9120B6-DD48-44BD-9E0A-CC1A37407761}"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0266DF-0D81-43C0-8AFF-F6E0F99D20AE}"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B2E857-18F2-43C6-8F29-2796A1BC84B3}"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34C2B2-8A40-4275-B2F9-83C68A81563D}"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509B8B-587D-498F-8F9F-317BFBE23313}"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E9C94A-00A4-45D1-B777-339289C35E01}"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E89E78-08CB-4101-933F-BEDC2DA0FCC6}"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24085E-EF78-40D8-B4FB-3C1A2F42AB50}"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5E8D03-0B88-4AB3-A8E5-BF7876248FF6}"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1F0A09-6D2A-49CE-A898-7339753A22FC}"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1F1485-6BE1-4FBA-B4E7-32D1DF9B428B}"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ED9105-E097-4376-8D01-99C0DA6AF983}"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3A27E3-43B8-48D5-94F7-07D236906A65}"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5952C7-18DF-4211-AC8B-8C6234ED8B87}"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46C2CA-482E-49E5-A851-D688E0C9DF3B}"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23733EE-4D3C-4A01-B502-1A95D3C32E7A}"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4DC27D-7D1C-4113-A169-BA975CEAB285}"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05DB9A-4F49-4A92-B0B0-0A44BBA70B4E}"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0A50E3-C88E-4F40-AC3F-3FE308635C3E}"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01FB5A-B7CF-4EEB-9B33-A172367F1F10}"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3D7D74-8651-441F-9C6E-B891EFA8B78B}"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C02B2B-FA00-456A-89BC-E89779B3EFB4}"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A158EE-2B73-4823-9CE0-26B99F4C5E1D}"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7E87BC-0157-41D7-84E9-E13D842D809A}"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B6AA20-646A-4BCF-BD17-054B7140CEA7}"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A69258-E017-4DFA-98C2-5FA421679F56}"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0D5743-5E87-4896-9E65-8B39C6F033A8}"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DD8F52-FF07-4C99-8057-4D76F3EE0D6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A0C32B-7B48-4A57-8E89-AEE5ED7CBEE0}"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47D305-A0C0-407E-AE48-B2BF80D67222}"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C8F01A-5DE9-4ED4-B8C3-0CB8EBEDD4BE}"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65698E-2815-4FA2-969A-D22DFD61A297}"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D6AF04-F9B1-4902-AAFC-2B7D6332936F}"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BB8C1E-6CCB-4675-AAF7-F83C0AA42F4D}"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8DDAE3-7E82-4D41-8BC7-DAE258430EA9}"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335A1D-3B9F-415C-9ECD-49C6809D04DB}"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75C84F-0CEE-4A67-8A3C-EE736805359D}"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9ADFEF-388F-4AD7-8181-CA6038D46486}"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ACA7EE-8F77-4181-B5E1-C8226C6BFDF6}"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E8AD4A-E9CC-470A-85FA-C5CEAE65A4CD}"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F13AD3-9E53-4D74-87AE-B0569479CCBB}"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586A1D-B818-4A79-A8A4-6D24F039D767}"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D274B0-0F67-4828-8AFF-087B1743DC99}"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6616FB0-39A6-44EC-8714-E57F65FF5D98}"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664EB8-DDC2-4EDE-8650-FFA6DC918F9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BEFF6C-5246-4D91-9872-69DE24F78B3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E4B1AE-825D-4762-845A-5C5E0605011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4675E0-6F44-483A-8E0D-AED62B13487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249580-E0EF-49EA-84D6-05368B4F056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C9397E-EE5E-4E3A-BC4E-5F53EA31B1F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ED889FE-F9AD-4FD7-A510-B6F869C53C8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0E8DFA-5003-404B-A1B6-3118928AA78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CCB8AF-AFDF-481D-978B-BFA50E5AC69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C59051-4162-4D10-89E6-8BEFF4BF1A8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C887B3-275D-4A8B-98BB-94A7AEDE17E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1099C4-D400-4332-ABF4-33D1FFEEF3C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7DA648-8674-4FFF-8B88-1311A5D8792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851E85-B59F-46DE-9F6E-3C455157E05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610640-F694-48A4-83A8-BC8B70E58D0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7EAE34-5E1A-490E-A274-04FF1597155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E8F3B4-098B-4B5C-A8A3-E7B7E7593E2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3F8784-32E5-41C7-A366-E7974B21C86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9CF73C-703E-4A5F-A966-42F2DDFD11E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C602AC-8D81-402E-8890-37F26B6A25D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323F39-B082-406B-9607-D69A1A969D5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0E4B3D-E26A-4BD3-A5DB-C11E7DDEFD6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5F917B-61D7-4767-8D96-F9708ABD6EE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695450-EB47-45B3-9BD8-F3766AE5D29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A00ABB-4341-4719-A2E9-88E9E2A088E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7689CD-03AE-42FD-A0F4-F4F025F15C1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53058A-07E1-4CF3-8E17-E85EC429159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4773A1-2FD5-4D6A-903D-7B648CE4EA8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B0B6EC-D54D-40BF-B20B-3584C7E188F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40A86D-E8D1-4E6B-9D8F-41A11664FFB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7C94F9-769D-4092-B0C1-AB66C325020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2A903E-ADAE-4FFF-8AA9-1C04DCDC845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AF5F31-5742-483A-AF02-D46BB523362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0A937B-611C-4AD8-9ED0-A6ED441976F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07EAFF-9F27-4E25-BE04-A85898A786B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E56540-3E65-43B7-B5B9-6D76CF0B1B3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0BE224-08F6-46CD-9EF1-5DEDCC8E1A2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7BF9A0-B64F-49D7-BA90-05494CBB7CFC}"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3218F1-D617-4FC9-BE5E-14CE6F76CF8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4F99E8-DA92-4935-B827-5D10C443161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55AAB6-97AF-4CB8-A8B6-BA99C52249E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CEC165-E1DD-4F7A-9AB4-E09DC66D40B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FCA302-AFF4-47FE-9106-82675521105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103552-BDBB-4F90-9A7C-7C685464DC7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BCFCE3-CCE7-4FA5-9434-5D47FB6EFC8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182363-CF4F-43A7-97E8-A56D156E5619}"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DD80A1-3241-4730-85D3-B3713868E93B}"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11200E7-D43C-4EA5-83D6-6A3911E7836C}"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E1D070-3626-4910-BBF2-7FA56EA47B4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6DAD03-3C84-4FF7-BF61-7F491E0E9B3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AC3525-C17E-4C84-B420-34C85A104306}"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BF6064-FCEF-4BD9-BD1C-32799FD95B2E}"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5F0378-67E7-4ABE-ACC2-137C8918D21C}"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F63F54-3A27-442C-BB5C-549B53635CD2}"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BB79C3-2287-47FC-854F-A27659A9EB83}"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30B2CC-F022-4437-B90A-ECC8774E2B8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47AE338-5632-4E8F-9B14-D148159A6E4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47BB62-1087-442A-AC16-CE4C7C8136F0}"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7E0851-07BC-49D6-B90D-55FB21CEE5D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0C1516-87F8-4435-8C7B-4A656C146641}"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B1F270-6774-4296-B2E9-495A0EEB5386}"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3F6BC0-D756-4EFA-888D-2DB45EF78F6A}"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D132BE-BB20-4877-A2A7-6F265C98FB6D}"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08160A-D4D3-4AC0-B252-33C2AC755A3F}"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50D63B-5F68-4B33-8E08-55B7BC090302}"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AE4BA4-D66F-43AA-885F-B6CA1BE5F83E}"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DDE53F-84C5-4E7B-BDED-3DDB088CAD2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BDDF69-08F9-46B0-99C8-A5E8684540C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0BD5E8-8DE5-4C6C-B836-608367C8C6D7}"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D5648C-3BB1-47A2-B217-9B3128B6439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9328B9-D353-4C9F-888C-840AFD11053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3E3D92D-E4B7-41D1-AB87-F372C01633D9}"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B91B3E-CF35-490C-B6A4-DC0CA2B08309}"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540726-1DB7-400E-B13C-9FF102DA9AB7}"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501DE0-CFE9-47C8-A365-09C84528EEB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BB5715-7E48-4424-949D-AD73E03FEEB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F5B67E-EF69-43F7-9B1A-8A61FC9CC8C4}"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08490C-1681-48BF-A981-77E871CFA76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F3D2D3-2274-40CC-890C-3D439A9820B1}"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4C93C4-7487-4D37-8D48-5C12250DF6EC}"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2BD619-B096-439D-9CE9-E1792F4A3FAF}"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B66959-B209-43F2-BA3F-E1E2B895522B}"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EAB1DA-F775-48E3-BF78-C7025C8BFE9E}"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698EA4-2EEA-4C04-8B94-641A36237D66}"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59F9DC-7D22-40C0-8031-F608BFC90DD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