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85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ts val="3685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0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Тестовый тит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ĂĀ ĊČ Đđ ŬŮ Ž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ts val="36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естовый 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ts val="368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ԱԲ ԳԴ Ե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imbus Sans L Condensed"/>
              </a:rPr>
              <a:t>ΑΒ ΓΔ αβ γ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imbus Sans L Condensed"/>
              </a:rPr>
              <a:t>ヰヱ ヲン ヴ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Nimbus Sans L Condensed"/>
              </a:rPr>
              <a:t>僭働 傭傍 倭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