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733110"/>
        <c:axId val="72526063"/>
      </c:barChart>
      <c:catAx>
        <c:axId val="45733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26063"/>
        <c:crosses val="autoZero"/>
        <c:auto val="1"/>
        <c:lblAlgn val="ctr"/>
        <c:lblOffset val="100"/>
        <c:noMultiLvlLbl val="0"/>
      </c:catAx>
      <c:valAx>
        <c:axId val="72526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33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AF81-3778-4639-8661-79551E4D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16BA-D261-4181-B5BF-36122D31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FFF-B5A4-42BB-A49A-842A2613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31C-CD1F-4E8F-8245-AC834449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5A1-55D0-4939-B253-3562C664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076-154C-41FC-8BC0-F9E888D1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BF03-C8E5-45C2-BCD4-9A1E6E1A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287-DC85-48DD-8D5F-1A1129FE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F83-1BF0-4C94-8A28-CE94E65A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13E5-EABA-4A73-BD46-E90BA4E8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A01-438C-4646-8964-E8DACD91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51A-03D1-4215-B9AB-425F47DA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8C65C-3729-4ABE-BD27-640B225064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