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1027624"/>
        <c:axId val="87962217"/>
      </c:barChart>
      <c:catAx>
        <c:axId val="4102762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962217"/>
        <c:crosses val="autoZero"/>
        <c:auto val="1"/>
        <c:lblAlgn val="ctr"/>
        <c:lblOffset val="100"/>
        <c:noMultiLvlLbl val="0"/>
      </c:catAx>
      <c:valAx>
        <c:axId val="8796221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02762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0A12F-48D3-41C3-B2D1-E8E6DD087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2545D-A31D-4589-809C-E4694063D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4A70A-61AB-4D08-BE26-C182DF2AE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920F5-2711-43FD-B47C-3FADA1B9C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C9F09-3476-48CE-BE73-80FE3F48F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0D9A0-F108-4EED-9EA1-99C768994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40968-91E6-4381-9174-4F7F5EA3E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D1592-89E7-4305-B256-13EA73D13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1629D-D6DC-4F3D-A607-0C406A02F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0A55A-E517-4D2A-8601-4A0A02CAA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4AA77-201B-4D64-8860-D8B91ABFF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3C1C4-6A96-4304-8207-A3941ABC1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F2FA0D-EAE7-4AD6-87EA-9750B4CAC15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