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66035"/>
        <c:axId val="14289112"/>
      </c:barChart>
      <c:catAx>
        <c:axId val="823660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89112"/>
        <c:crosses val="autoZero"/>
        <c:auto val="1"/>
        <c:lblAlgn val="ctr"/>
        <c:lblOffset val="100"/>
        <c:noMultiLvlLbl val="0"/>
      </c:catAx>
      <c:valAx>
        <c:axId val="14289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660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A0F-AD59-4EF8-8404-DCBBED6B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AD8-DB2A-4095-9A00-7E202BB1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53C-8AC1-4677-9F66-23E36E97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3E3-FAB0-4811-BC03-4F777B14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0B1-5607-443E-B35D-BA5E5666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51F-F7DE-443C-BAA7-3521544A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239-AD28-43F9-9BB2-649463A6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20D-2F37-4A60-B253-8386176D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BD4-5E87-481F-84D8-D3C34C98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271-2795-4B29-970A-B1FFAA87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5A4-F9F4-45E9-8A49-E93274C7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75F-67E7-4C68-BA92-C21DBF87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21F82-4038-41B0-B7BE-E5628E98C6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