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56662"/>
        <c:axId val="96222744"/>
      </c:barChart>
      <c:catAx>
        <c:axId val="50556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2744"/>
        <c:crosses val="autoZero"/>
        <c:auto val="1"/>
        <c:lblAlgn val="ctr"/>
        <c:lblOffset val="100"/>
        <c:noMultiLvlLbl val="0"/>
      </c:catAx>
      <c:valAx>
        <c:axId val="96222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56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853-C359-4AA8-97CB-989AC66F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23C-687D-4592-9A22-5D83A50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28C-EB26-49C4-A8CF-B04534E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EE6-7BFA-4F20-B59A-73A05F2B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277-A362-4AE9-A06F-8E5C943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E75-ED56-4528-ADE0-BCA65C7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980-C97F-4E28-8390-062D324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B96-FAA4-4973-9171-075FF377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812-0C05-49C6-9339-0F8BEB13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423-C631-4634-A9C2-1BF7B07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B18-C608-4FEC-87B3-84DD606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C8C-8E99-4267-9D5F-1A7BB81C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04DD-9CA5-4FA9-BF73-1457DEEBFE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