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09145"/>
        <c:axId val="34076408"/>
      </c:barChart>
      <c:catAx>
        <c:axId val="42809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76408"/>
        <c:crosses val="autoZero"/>
        <c:auto val="1"/>
        <c:lblAlgn val="ctr"/>
        <c:lblOffset val="100"/>
        <c:noMultiLvlLbl val="0"/>
      </c:catAx>
      <c:valAx>
        <c:axId val="34076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09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DB8-81BB-4647-B903-76B1382A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D4D-1A0F-438A-B354-E533FD63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AD8-3AD6-4D57-81DE-D7060167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754-2222-46D1-94EF-CC48FAD1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912-C765-49F1-B673-15F6B8F0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43A-39B2-4211-99A0-C3225048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CE0-15AC-4714-ABF4-4672DC8B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603-7E63-4A15-BDCF-B0F8CA8A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25C-4085-48DE-848A-9E588329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5AC-129B-498E-9DD2-693B4EE7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D01-15CD-42D2-8720-9F9948AF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2BC-C80B-427F-85C9-0AD68895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ACB0F-8644-4B73-BD27-1548FCCC38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