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13377"/>
        <c:axId val="24709247"/>
      </c:barChart>
      <c:catAx>
        <c:axId val="58113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09247"/>
        <c:crosses val="autoZero"/>
        <c:auto val="1"/>
        <c:lblAlgn val="ctr"/>
        <c:lblOffset val="100"/>
        <c:noMultiLvlLbl val="0"/>
      </c:catAx>
      <c:valAx>
        <c:axId val="24709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13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840-2E8B-43AB-A5D5-7FD79BC6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61A-DA5D-4232-AEAA-59FBBBC9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0D8-79EF-4C67-8F59-EFEC2388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506-1CD9-469D-9210-BD008A77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8DD-3508-4465-A866-0A2E3A49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275-46E0-4471-964A-AC3D3DF2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3EF-2164-4A0A-8553-10BC75FA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902-8A91-431C-8C12-8B67C84C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106-ED3F-4E2D-B4C0-A53364B5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B17-7F73-42E0-BF9A-3F4C9ED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23A-EEC0-45C0-87A3-09FED51C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DE9-19F0-46C5-A197-8F57E585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6CF24-AEC4-4B74-A972-DBD90F9AD9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