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137356"/>
        <c:axId val="38531448"/>
      </c:barChart>
      <c:catAx>
        <c:axId val="691373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31448"/>
        <c:crosses val="autoZero"/>
        <c:auto val="1"/>
        <c:lblAlgn val="ctr"/>
        <c:lblOffset val="100"/>
        <c:noMultiLvlLbl val="0"/>
      </c:catAx>
      <c:valAx>
        <c:axId val="385314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373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9CAE-97C5-4B33-AADE-187F9AAF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6D9A-6420-43A9-8E36-57DC37E8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5151-75D6-4A5D-9D96-C90D8521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7322-C317-44BF-BFE8-B73ED2C1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712E-2F6F-4754-BA74-DB47BE20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A91C-43C6-4B3B-9CAE-FAE06F05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5242-AA8F-4C6D-856B-6A4714ED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EAC4-E867-460A-B0B7-2170DADC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27DF-0592-46C6-8963-FDB911B8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D9D5-1965-4425-984F-A37153D6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036D-A823-4D2C-8EDD-CD9AC7F5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4747-D40F-47DF-A778-006380C7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20C15-4C40-4C07-BCB2-5D4B3F5C10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