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81178"/>
        <c:axId val="32748429"/>
      </c:barChart>
      <c:catAx>
        <c:axId val="18981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48429"/>
        <c:crosses val="autoZero"/>
        <c:auto val="1"/>
        <c:lblAlgn val="ctr"/>
        <c:lblOffset val="100"/>
        <c:noMultiLvlLbl val="0"/>
      </c:catAx>
      <c:valAx>
        <c:axId val="32748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81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94D-4E3A-4F46-9CBB-48FF6AFA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212-9D15-4B00-A01C-A0369C88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396-A595-4D55-9E00-00E30AFC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847-EEEC-45F7-BE80-4EA657B6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BA0-0A32-43EA-8FA4-CFFF81D9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00C-CCFC-4077-BDED-FE9EE05A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D9A-005D-44A8-9BBD-5AC0438B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15B-B52A-4273-8F61-563F2526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1E2-BDFB-40E1-9061-15688C09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9CD-9502-4509-9A9B-B900604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831-A654-427E-B27B-15FAE1CD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C25-78F7-46C1-8918-7451C0E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6CE24-64A7-47EC-BE6D-D5C30749E6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