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5722"/>
        <c:axId val="49115590"/>
      </c:barChart>
      <c:catAx>
        <c:axId val="2985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15590"/>
        <c:crosses val="autoZero"/>
        <c:auto val="1"/>
        <c:lblAlgn val="ctr"/>
        <c:lblOffset val="100"/>
        <c:noMultiLvlLbl val="0"/>
      </c:catAx>
      <c:valAx>
        <c:axId val="49115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5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C29-EFC5-4EB7-9B72-E7A399EF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CA8-6A92-4E77-8043-6FF58480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651-35DD-47DA-8454-5FCBA2CD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B35-5551-49EB-9CAB-40E0AC3A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B58-7AF1-4D59-95CB-FEA69CDB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362-CF93-485C-85DF-E0500A7D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7F3-4234-4300-89F6-D175F73A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E9E-1C6E-48A2-8BB6-CAB6477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AF5-47CB-430F-87DD-DEFFA7F6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0DC-D33D-4674-89DE-6B6627D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D6B-66BB-4D7F-98D0-9F5090A8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A6E-DA1F-4912-A18F-18E95067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AA150-D0C0-4E51-B8D7-5CAE5A6CCA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