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76718"/>
        <c:axId val="48283545"/>
      </c:barChart>
      <c:catAx>
        <c:axId val="423767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83545"/>
        <c:crosses val="autoZero"/>
        <c:auto val="1"/>
        <c:lblAlgn val="ctr"/>
        <c:lblOffset val="100"/>
        <c:noMultiLvlLbl val="0"/>
      </c:catAx>
      <c:valAx>
        <c:axId val="482835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767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0D0E-D8FD-48E4-9B4F-2BCEB01A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998A-C1D8-48F8-B166-F3A5DF1B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EE97-DCE3-47BB-BE78-4AD11506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D214-C859-46F3-82CE-2EDB43B3E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B132-C07A-4507-A23E-9E2C8F7E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77FE-349C-4862-95E1-1E8E7EB4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452C-14E7-4C8B-A652-80DC20BC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D3AF-A714-4A6E-BE1B-7FD600B3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0693-5C76-425B-98E9-C3AF9A54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D16B-E4EB-456E-84EE-086893CC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3976-89E4-4462-B84F-6F1DF4B0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A86D-BA83-493A-BB41-ECAB2756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B580A-7C88-4C0A-9559-258769636B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