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99675"/>
        <c:axId val="98548649"/>
      </c:barChart>
      <c:catAx>
        <c:axId val="27499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8649"/>
        <c:crosses val="autoZero"/>
        <c:auto val="1"/>
        <c:lblAlgn val="ctr"/>
        <c:lblOffset val="100"/>
        <c:noMultiLvlLbl val="0"/>
      </c:catAx>
      <c:valAx>
        <c:axId val="98548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9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B95-1FFB-4D67-9C73-7AF5D347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C64-C0FC-47EE-9117-6F6AC0A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85F0-07C9-4507-80B8-A8D7C962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E5B-24DC-4293-B144-F966F149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174-A670-4E1A-8BA2-056540C3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071-D4B2-4E31-945C-ABD066E8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6C5-43FD-462A-BE46-B8A677C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CF1-07A1-4528-8B87-AF17381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CCF-FEEB-450B-8E25-51D68BC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4B5-6F6F-4526-936E-1844CAB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C50-38FA-49E3-8FE3-91420B9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84D-83C7-4A9F-8AB4-EB1658C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8112-7EAA-4AA2-9C62-239EEDB7B0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