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27593"/>
        <c:axId val="46405868"/>
      </c:barChart>
      <c:catAx>
        <c:axId val="70627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05868"/>
        <c:crosses val="autoZero"/>
        <c:auto val="1"/>
        <c:lblAlgn val="ctr"/>
        <c:lblOffset val="100"/>
        <c:noMultiLvlLbl val="0"/>
      </c:catAx>
      <c:valAx>
        <c:axId val="46405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7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234-8CF0-4A7D-9316-823A36B0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05E-D411-449C-9118-E39866AC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86B-E3BA-4833-BE23-0124FF3D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1BD-6E89-459D-9237-48341B09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CB3-5F14-4C6D-B675-B5CE92D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5D0-C80F-4029-A201-28EDCB96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305-FFED-4C88-8301-99D19103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5119-3807-4EDA-A265-2ECCCF36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419-A837-44CD-9620-E072F469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6CB-6111-49BA-859F-173D910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6D5-F251-49F1-8D25-32E602B3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B76-5BB8-4D53-A5EB-73A67CE8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152FE-1C5C-41C0-8565-AF00096D07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