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9050"/>
        <c:axId val="6589273"/>
      </c:barChart>
      <c:catAx>
        <c:axId val="738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9273"/>
        <c:crosses val="autoZero"/>
        <c:auto val="1"/>
        <c:lblAlgn val="ctr"/>
        <c:lblOffset val="100"/>
        <c:noMultiLvlLbl val="0"/>
      </c:catAx>
      <c:valAx>
        <c:axId val="6589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E03-1E26-4932-B147-A7580183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C3D-8914-49C8-B4C0-FCD7DB0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CB4-F446-4F52-9ED1-559A0E25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11A-A1BC-4995-9B93-7C712C36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D0E-2D56-4DFB-94FF-8BC32C72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9E9-67A4-415C-BEA3-F3DA4F4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578-906E-46D7-AC71-264FDB77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8CC-98D8-410E-8040-DD64BB8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96F-BDE3-460F-8036-A23C6833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60C-FB11-4851-A5FC-99644E76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CCB-0069-4CBB-BDB2-1E9C982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D34-393A-4EF9-A213-8D17BD7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3BD1-A574-439D-95CD-A95A80A63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