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441272"/>
        <c:axId val="69056378"/>
      </c:barChart>
      <c:catAx>
        <c:axId val="664412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56378"/>
        <c:crosses val="autoZero"/>
        <c:auto val="1"/>
        <c:lblAlgn val="ctr"/>
        <c:lblOffset val="100"/>
        <c:noMultiLvlLbl val="0"/>
      </c:catAx>
      <c:valAx>
        <c:axId val="69056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412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5D07-60BE-4FFF-9F86-1EA49957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152-0902-4225-B3F1-A14243F7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A72-3C1A-4BAC-A52C-5004D4315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EBCC-4E95-46EB-82EB-47901D1C6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13F4-22E2-4CC0-B549-8077614D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13D3-9AA1-4248-8C05-5AEEC4AC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49D1-5020-42EA-B0C9-AA534E73B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50E-CC0C-4971-B40A-87322D0D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B3C-6477-4455-8ED5-8732BE3E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07A0-9793-4642-B2CF-E641D78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0630-A172-4401-AC72-2C08CA8F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75BE-7949-44F2-95BF-B19F23A52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45FA4-8B54-4461-BB5B-F6E20DAF1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