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86345"/>
        <c:axId val="18918188"/>
      </c:barChart>
      <c:catAx>
        <c:axId val="68786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18188"/>
        <c:crosses val="autoZero"/>
        <c:auto val="1"/>
        <c:lblAlgn val="ctr"/>
        <c:lblOffset val="100"/>
        <c:noMultiLvlLbl val="0"/>
      </c:catAx>
      <c:valAx>
        <c:axId val="18918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86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0AE-8787-4242-900E-EA3C5FC7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DB1-F6AE-44FD-80C7-52A8C55E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6DB-8CBA-4871-A93A-4A732341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582-85FA-4317-82E0-A2BD8C6E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0FC-BC06-49E6-A6C0-09719541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ACF-D6CE-4B44-A8FF-92C0783B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E4B-5C75-4A39-8A19-1B3A5AFE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816-C40F-43A2-8FB7-39C8EC24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540-BD34-4EC2-81BE-C6C3E62E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43E-1426-496C-A240-97A973C1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ADA-70D8-4C77-81CF-6B134255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58B-8674-4C05-A646-41439888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C408E-04F4-4AF1-8946-DE6EA81691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