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513463"/>
        <c:axId val="4476333"/>
      </c:barChart>
      <c:catAx>
        <c:axId val="465134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76333"/>
        <c:crosses val="autoZero"/>
        <c:auto val="1"/>
        <c:lblAlgn val="ctr"/>
        <c:lblOffset val="100"/>
        <c:noMultiLvlLbl val="0"/>
      </c:catAx>
      <c:valAx>
        <c:axId val="447633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5134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CDC3-7D14-444F-B88A-0738FDED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6D77-8DE8-4176-BFE4-0AA0B0FC2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7FAA-A2FE-49A1-AFC4-EBD1C023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448B-B8C0-4185-87CC-C4A4FE2C8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7801-1864-4D46-B10F-DD64E5C2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2AC-6E69-482C-BDE1-33CA46760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8635-B28C-47B0-B382-34A84D32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70EB-AE08-4175-A762-78BCCBBA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485-2370-477B-BA57-6D3909A3C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986F-193A-4F79-967C-9C1B1BF7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92C4-3D73-4D70-AF25-D0007B60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9F8C-E539-4EF1-BEFC-AC32B7E2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DE057-1273-41F4-A62E-3AAF81435C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